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D03-1C82-40AA-9CF4-81E6A8CF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346-EAED-414A-99D5-E751E289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012-E417-43CD-A70B-F2488BAE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8AB-12EA-4E94-884B-EA0F4D69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C143-795E-40FE-9D92-7E7CDEDB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D519-9E23-4922-AAD4-75442326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7EAB-F55A-4FD8-83F8-5E38CDCC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F358-7D5B-46F9-AFB6-F7983155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4B96-80B8-43B5-91C9-037D6FCA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F147-4349-4CB6-835D-02862FD1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3D9A-2DC6-45EC-BBE7-34C75A7C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BF2-4712-4CE5-99CE-122079AF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40B5-7F4A-4218-8720-4C1B764F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E9F9-0FA2-4478-AA46-DDE6400F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242E-AD5D-4823-9B9E-E6F21904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87E6-74CA-4F5B-BEE6-960C2A75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5254-B7D8-4CEB-A6AF-493905E6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15B-ECAA-468B-B5BD-F022DE59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CAC-283E-4019-9DD1-2DFBC799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690-EC8F-481C-8672-C0CD5393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F4C-E020-4110-9EE4-161646E4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E7D-7EAB-438C-826C-46FCEDCC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184-2672-4BE1-9EA8-424AE598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6B9-B4EF-4129-857D-7942E70F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1C84-7A76-4BAB-8FFD-795DFA3FBD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1C69-8EF1-4AD4-8DC5-F22CC266576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w-world.de/dw/article/0,,4706119,00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csmonitor.com/World/Global-News/2010/1017/Germany-s-Angela-Merkel-Multiculturalism-has-utterly-failed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ultural diversity in German speaking countr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nguage diversit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y Nick Cherne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ources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.dw-world.de/dw/article/0,,4706119,00.htm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www.csmonitor.com/World/Global-News/2010/1017/Germany-s-Angela-Merkel-Multiculturalism-has-utterly-fail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ttp://nimg.sulekha.com/others/thumbnailfull/angela-merkel-wen-jiabao-2008-10-23-6-34-3.jp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ttp://teambuildinggamesforkids.com/images/team_building_12.JP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ttp://www.pretoria.diplo.de/Vertretung/pretoria/en/10__GIC/02__GL/Diversity/Living__Together.htm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ttp://kelsocartography.com/blog/wp-content/uploads/2010/08/201012eum978.gif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 rot="5400000">
            <a:off x="9254160" y="-3844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ttp:/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9371880" y="-65160"/>
            <a:ext cx="115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www.csmonitor.com/World/Global-News/2010/1017/Germany-s-Angela-Merkel-Multiculturalism-has-utterly-fail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ifferent languages in german countries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rry Hoerler lives on the edge of the German coast and he speaks a language closely related to Germa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 speaks underduetsch which is a German- Creole languag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 says that his family usualy speaks at least 3-4 languag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language they speak would typically be english, german, and a variety of regional and indigenous languag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day there are less than 100 undeutsch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ferent languages interact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5" descr="team_building_12"/>
          <p:cNvPicPr/>
          <p:nvPr/>
        </p:nvPicPr>
        <p:blipFill>
          <a:blip r:embed="rId1"/>
          <a:stretch/>
        </p:blipFill>
        <p:spPr>
          <a:xfrm>
            <a:off x="1490760" y="1447920"/>
            <a:ext cx="3925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ifferent languages in german speaking countri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emocrat Angela Merkel has said multiculturism has fail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he said that different languages living in Germany doesn’t wor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oreign speaking people started going to Germany for work in the 1960’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0% of people in Germany felt that Germany was overrun by foreigne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rst Seehofer, of the opposing party of Merkel said “multiculturism is dead.”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gela Merkel with other cultur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5" descr="angela-merkel-wen-jiabao-2008-10-23-6-34-3"/>
          <p:cNvPicPr/>
          <p:nvPr/>
        </p:nvPicPr>
        <p:blipFill>
          <a:blip r:embed="rId1"/>
          <a:stretch/>
        </p:blipFill>
        <p:spPr>
          <a:xfrm>
            <a:off x="1128600" y="1371600"/>
            <a:ext cx="3876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fferent languages in German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 Germany they are trying to help foreigners learn their language so they can interact bette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ean Zecchinel of the article is from brazil but calls Germany his new hom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anjun Ying from china studied architecture in Germany and says it is a good idea to help new foreigne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re are 15.1 million people with different background but live in German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re are many schools in Germany were different languaged people make up the major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erman Dialec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 was the German-Creole language calle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en did foreigners start going o German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sw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nderdeutc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960’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7:32:40Z</dcterms:created>
  <dc:creator>SCSadmin</dc:creator>
  <dc:description/>
  <dc:language>en-US</dc:language>
  <cp:lastModifiedBy>SCSadmin</cp:lastModifiedBy>
  <dcterms:modified xsi:type="dcterms:W3CDTF">2011-09-01T17:32:03Z</dcterms:modified>
  <cp:revision>8</cp:revision>
  <dc:subject/>
  <dc:title>Culteral diversity in German speaking countries</dc:title>
</cp:coreProperties>
</file>